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D76-D89E-4A69-9C51-7C825F1F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C48-F989-4367-8BB3-E21428F0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0C0-AEAF-45CF-94FE-BE5009D5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AE0-05FE-41DC-BEC8-339D8CCE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AEF-9470-405B-8257-DB228E7B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81A-500F-4527-998C-0431B6A6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3A36-3E41-46BE-BEFC-21D57F69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C1F-43B9-4C96-A80B-539B1D24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E1ED-F836-4959-AEA4-5154B208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56B-CA81-487D-B110-EFB29265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F8B-5229-4F00-9628-4DD896C9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481-440F-485F-BC38-759253F8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2E65-354B-4F11-8E7A-AC0555F163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2520" y="2362320"/>
            <a:ext cx="462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val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86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705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4008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7924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1625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934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782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580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9:46Z</dcterms:modified>
  <cp:revision>191</cp:revision>
  <dc:subject/>
  <dc:title>Slide 1</dc:title>
</cp:coreProperties>
</file>